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50920" y="-36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1160" cy="3718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988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43092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50920" y="943092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B8CAF-7234-456B-A58A-3B1044E4885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03611-BD0C-42A0-B765-5B65D4EE173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C84E6-B640-477A-9D99-C53E3656BD7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13084-D8DD-41D1-8A0D-CFEC3CFBF70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90F61-138A-4248-97ED-1397441EC68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A6EB1-DB93-46C8-8E9F-283D0D1A729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9F6C3-B60A-4A9A-BDE7-F9990B5327A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36A4D-01E8-44FA-8FA9-1927DE29277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AE32B-990A-4C06-B4D5-D2A98FC08F0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75819-B56D-468E-91CE-0F50C158E52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CFA33-8EB0-4583-9340-A9B7C5F648B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AFFC0-1688-4C61-9C87-28589C95516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8B399-02FC-420A-9124-ADA82B4AD57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ECD6C-E8D8-4AD2-92C9-92B890E0353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A94E8-5D50-47B3-818C-88EEC6C3AA1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0B5AB-DEB1-4E32-8C2D-DAFF69BE2D4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78954-2061-4713-A935-F6EC9C58372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E779-E6F3-4016-8622-CFE9B62F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32A-CCB5-4E01-8226-32A4891D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369-22E3-4060-AD53-665A9F05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ADB-29EA-4C3F-9B32-0B1A2C0B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ADE-C4C0-4A0D-9A2F-67DBF2AA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FDD6-9E1F-401A-901C-727152FD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32E7-CF69-4B9D-987C-2B27C3C2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25B-BD74-40E9-82BB-BBD20F70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7677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BD72-38DD-4B9C-9CC2-E0F5A9A2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651-41BD-4E26-BCA4-2D556011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C861-6274-4888-8D8F-15CD6A6F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97B-FBE8-4530-8B98-C59935FC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EBA12-309B-4DED-9602-A948D27C393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11240"/>
                <a:tab algn="l" pos="568440"/>
                <a:tab algn="l" pos="1025640"/>
                <a:tab algn="l" pos="1482840"/>
                <a:tab algn="l" pos="1940040"/>
                <a:tab algn="l" pos="2397240"/>
                <a:tab algn="l" pos="2854440"/>
                <a:tab algn="l" pos="3311640"/>
                <a:tab algn="l" pos="3768840"/>
                <a:tab algn="l" pos="4226040"/>
                <a:tab algn="l" pos="4683240"/>
                <a:tab algn="l" pos="5140440"/>
                <a:tab algn="l" pos="5597640"/>
                <a:tab algn="l" pos="6054840"/>
                <a:tab algn="l" pos="6512040"/>
                <a:tab algn="l" pos="6969240"/>
                <a:tab algn="l" pos="7426440"/>
                <a:tab algn="l" pos="7883640"/>
                <a:tab algn="l" pos="8340840"/>
                <a:tab algn="l" pos="87980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orge Bernard Sh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lf Control is the quality that distinguishes the fittest to surv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ime behaviour of the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-Operon sw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58560" y="620064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Vilar, J.M.G et al, J.Cell Biol.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5943600" y="2158920"/>
            <a:ext cx="2451240" cy="2108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2539800" cy="2121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5918040" y="4038480"/>
            <a:ext cx="2463840" cy="2133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0320" y="1568520"/>
            <a:ext cx="28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ow inductor-concentration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508400" y="419112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ime (generatio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629760" y="597384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ime (generatio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 rot="16200000">
            <a:off x="-59760" y="307332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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galactosidase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 rot="16200000">
            <a:off x="5121360" y="314892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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galactosidase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 rot="16200000">
            <a:off x="5121360" y="480780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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galactosidase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522360" y="4572000"/>
            <a:ext cx="492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fferent colors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fferent c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de-DE" sz="1800" spc="-1" strike="noStrike">
                <a:solidFill>
                  <a:srgbClr val="ff3300"/>
                </a:solidFill>
                <a:latin typeface="Times New Roman"/>
              </a:rPr>
              <a:t>Cells don´t switch synchroniz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olid line: mean value of 2000 c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d dots: experiment (Novik, Wiener, PNAS 195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5408640" y="152388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igh inductor-concentration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odel for </a:t>
            </a:r>
            <a:r>
              <a:rPr b="0" i="1" lang="de-DE" sz="44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753000" cy="3833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5186520" y="1523880"/>
            <a:ext cx="3728880" cy="381024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4"/>
          <p:cNvSpPr/>
          <p:nvPr/>
        </p:nvSpPr>
        <p:spPr>
          <a:xfrm>
            <a:off x="4191120" y="335268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098960" y="4000680"/>
            <a:ext cx="94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luk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648320" y="54864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FP: reportermolekule, Imaging via Fluoresc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The higher the fluorescence signal, the more LacZ,Y is expre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erimental prove of a switch with hyster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98400" y="1600200"/>
            <a:ext cx="7747200" cy="33782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457200" y="4952880"/>
            <a:ext cx="3886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rt: not  in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fter induction appear two population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duced population: g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ot induced population: wh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572000" y="5029200"/>
            <a:ext cx="4572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istable area (gre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rrow marks the initial condition of bacter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e of bacteria depends on the initial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Switch with hyster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6907320" y="647712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Ozbudak et al, Nature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odell for </a:t>
            </a:r>
            <a:r>
              <a:rPr b="0" i="1" lang="de-DE" sz="44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2"/>
              <p:cNvSpPr txBox="1"/>
              <p:nvPr/>
            </p:nvSpPr>
            <p:spPr>
              <a:xfrm>
                <a:off x="1295280" y="1905120"/>
                <a:ext cx="2667240" cy="24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+R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β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  <m:e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Text Box 3"/>
          <p:cNvSpPr/>
          <p:nvPr/>
        </p:nvSpPr>
        <p:spPr>
          <a:xfrm>
            <a:off x="4267080" y="1943280"/>
            <a:ext cx="466416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intracellular TMG concen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concentration of LacY (permease) (measured in GFP fluorescence unit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concentration of active LacI (represso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total concentration La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Hill coefficient (LacI is tetrameric, but 1 TMG is sufficient to interfere with LacI activit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maximal activity level (if all repressors were ina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transport rate, TMG uptake rate per L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repression f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half saturation concen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half saturation concen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time const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4394160" y="3886200"/>
                <a:ext cx="558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4303800" y="5019840"/>
                <a:ext cx="13618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ρ=</m:t>
                    </m:r>
                    <m:r>
                      <m:t xml:space="preserve">1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Text Box 6"/>
          <p:cNvSpPr/>
          <p:nvPr/>
        </p:nvSpPr>
        <p:spPr>
          <a:xfrm>
            <a:off x="1206360" y="51958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eady sta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1371600" y="5715000"/>
                <a:ext cx="19810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=α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βy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ρ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βy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Text Box 8"/>
          <p:cNvSpPr/>
          <p:nvPr/>
        </p:nvSpPr>
        <p:spPr>
          <a:xfrm>
            <a:off x="6907320" y="647712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Ozbudak et al, Nature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hase diagra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87360" y="1676520"/>
            <a:ext cx="4184640" cy="394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Object 3"/>
              <p:cNvSpPr txBox="1"/>
              <p:nvPr/>
            </p:nvSpPr>
            <p:spPr>
              <a:xfrm>
                <a:off x="228600" y="6391440"/>
                <a:ext cx="13604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ρ=</m:t>
                    </m:r>
                    <m:r>
                      <m:t xml:space="preserve">1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Text Box 4"/>
          <p:cNvSpPr/>
          <p:nvPr/>
        </p:nvSpPr>
        <p:spPr>
          <a:xfrm>
            <a:off x="152280" y="5519880"/>
            <a:ext cx="42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maximal activity level (if all repressors were ina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transport rate, TMG uptake rate per L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repression f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572000" y="1905120"/>
            <a:ext cx="43434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arge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discontinous transition from uninduced state to induced state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Phase transition of 1.O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mall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continous transition form uninduced state to induced state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Phase transition of 2.O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 wildtype bacteria, only discontinous transitions are obser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Create a mu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907320" y="647712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Ozbudak et al, Nature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hase diagr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5754600" y="485640"/>
            <a:ext cx="3122640" cy="6296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5241960" y="3124080"/>
            <a:ext cx="74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TMG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Induc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5791320" y="3276720"/>
            <a:ext cx="3045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086160" y="3733920"/>
            <a:ext cx="20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luorescence Intensity, [LacY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838080" y="2203560"/>
            <a:ext cx="39625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owere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under Wild Type niveau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utant with additional binding sites for  LacI Repressor (b:4, c:25)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reduction of effective LacI (Repressor) concentratio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reduction of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ig c: Continous transition between uninduced and induced state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O SWITC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Phase transition of 2.Or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914400" y="1090440"/>
            <a:ext cx="6934320" cy="57675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304920" y="45720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ynamics of switch behavior: comparison of experiment (grey bars) and stochastic simulation (r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"/>
          <p:cNvGrpSpPr/>
          <p:nvPr/>
        </p:nvGrpSpPr>
        <p:grpSpPr>
          <a:xfrm>
            <a:off x="1219320" y="1828800"/>
            <a:ext cx="6777000" cy="4824360"/>
            <a:chOff x="1219320" y="1828800"/>
            <a:chExt cx="6777000" cy="4824360"/>
          </a:xfrm>
        </p:grpSpPr>
        <p:pic>
          <p:nvPicPr>
            <p:cNvPr id="54" name="Picture 2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008760" cy="46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3"/>
            <p:cNvSpPr/>
            <p:nvPr/>
          </p:nvSpPr>
          <p:spPr>
            <a:xfrm>
              <a:off x="1219320" y="3914640"/>
              <a:ext cx="6777000" cy="273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ore genetic switch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066680" y="466416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n-Regulation with feedback makes a 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obuste“ vs. „ultrasensitive“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"/>
          <p:cNvGrpSpPr/>
          <p:nvPr/>
        </p:nvGrpSpPr>
        <p:grpSpPr>
          <a:xfrm>
            <a:off x="914400" y="1600200"/>
            <a:ext cx="3652920" cy="4675320"/>
            <a:chOff x="914400" y="1600200"/>
            <a:chExt cx="3652920" cy="4675320"/>
          </a:xfrm>
        </p:grpSpPr>
        <p:pic>
          <p:nvPicPr>
            <p:cNvPr id="60" name="Picture 3" descr=""/>
            <p:cNvPicPr/>
            <p:nvPr/>
          </p:nvPicPr>
          <p:blipFill>
            <a:blip r:embed="rId1"/>
            <a:stretch/>
          </p:blipFill>
          <p:spPr>
            <a:xfrm>
              <a:off x="990720" y="1600200"/>
              <a:ext cx="3525840" cy="46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4" descr=""/>
            <p:cNvPicPr/>
            <p:nvPr/>
          </p:nvPicPr>
          <p:blipFill>
            <a:blip r:embed="rId2"/>
            <a:stretch/>
          </p:blipFill>
          <p:spPr>
            <a:xfrm>
              <a:off x="914400" y="4724280"/>
              <a:ext cx="3652920" cy="155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5"/>
          <p:cNvSpPr/>
          <p:nvPr/>
        </p:nvSpPr>
        <p:spPr>
          <a:xfrm>
            <a:off x="4572000" y="1981080"/>
            <a:ext cx="434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ple networks with positive feed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Without hysteres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ltrasensitive switch, noise induced switc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838080" y="3200400"/>
            <a:ext cx="20574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990720" y="3124080"/>
            <a:ext cx="7767360" cy="3119400"/>
            <a:chOff x="990720" y="3124080"/>
            <a:chExt cx="7767360" cy="3119400"/>
          </a:xfrm>
        </p:grpSpPr>
        <p:sp>
          <p:nvSpPr>
            <p:cNvPr id="65" name="Text Box 8"/>
            <p:cNvSpPr/>
            <p:nvPr/>
          </p:nvSpPr>
          <p:spPr>
            <a:xfrm>
              <a:off x="4648320" y="3962520"/>
              <a:ext cx="4109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ith hysteres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Robust against noise (concentration of A stays down if it was down at the beginning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" name="Picture 9" descr=""/>
            <p:cNvPicPr/>
            <p:nvPr/>
          </p:nvPicPr>
          <p:blipFill>
            <a:blip r:embed="rId3"/>
            <a:stretch/>
          </p:blipFill>
          <p:spPr>
            <a:xfrm>
              <a:off x="990720" y="3124080"/>
              <a:ext cx="1901880" cy="3119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rcRect l="3701" t="4731" r="3701" b="0"/>
          <a:stretch/>
        </p:blipFill>
        <p:spPr>
          <a:xfrm>
            <a:off x="533520" y="2362320"/>
            <a:ext cx="3809880" cy="306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rcRect l="3570" t="0" r="3570" b="0"/>
          <a:stretch/>
        </p:blipFill>
        <p:spPr>
          <a:xfrm>
            <a:off x="4724280" y="2286000"/>
            <a:ext cx="3962520" cy="3176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447920" y="190512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mory-less 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791320" y="19051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stable 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156080" y="30481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Hyster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62120" y="55609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without Hysteres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ltrasensitive switch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oise induced switc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906480" y="914400"/>
            <a:ext cx="56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 simple switch with psoitive feedback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876920" y="551484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With hysteres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obust against noise (concentration of a stays low, if initial concentration is low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bust switches/Hyster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42069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5672160" y="6049800"/>
            <a:ext cx="18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LMU CompatilFact"/>
              </a:rPr>
              <a:t>from: Kaern et al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LMU CompatilFact"/>
              </a:rPr>
              <a:t>Nature Review 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istabile Behavi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56840" y="1371600"/>
            <a:ext cx="461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sitive feedback loops lead to bistable switch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319200" cy="223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3456000" cy="2352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4140360" y="4365720"/>
            <a:ext cx="4248000" cy="19238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4140360" y="1341360"/>
            <a:ext cx="446400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tein 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key regul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ve when present as a multim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ltimerization =&gt; nonlinear dynamics of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duction of A, f(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                       described by Hill-type fun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activation rate,                           described by a linear-type function, f(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istable genetic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perties of the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47447"/>
          <a:stretch/>
        </p:blipFill>
        <p:spPr>
          <a:xfrm>
            <a:off x="0" y="2438280"/>
            <a:ext cx="4568760" cy="3657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0" t="51463" r="0" b="0"/>
          <a:stretch/>
        </p:blipFill>
        <p:spPr>
          <a:xfrm>
            <a:off x="4876920" y="2362320"/>
            <a:ext cx="3882960" cy="287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228960" y="1649520"/>
            <a:ext cx="377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Times New Roman"/>
              </a:rPr>
              <a:t>Induction of the lac synthesis is 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Times New Roman"/>
              </a:rPr>
              <a:t>all-or-nothing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029200" y="152388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Times New Roman"/>
              </a:rPr>
              <a:t>Properties of genetic networks can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Times New Roman"/>
              </a:rPr>
              <a:t>inherit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094440" y="525780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Novick &amp; Weiner 19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487520" y="2590920"/>
            <a:ext cx="6513480" cy="2703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n-Regulation with Feedback:</a:t>
            </a:r>
            <a:br>
              <a:rPr sz="32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Ope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462040" y="34290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ac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800600" y="274320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PTG, TM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Lactose degradation pathway</a:t>
            </a:r>
            <a:br>
              <a:rPr sz="3200"/>
            </a:b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 hierarchic consid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01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304920" y="2552760"/>
            <a:ext cx="8839080" cy="3619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457200" y="190512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lecular inter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943240" y="167652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ellular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708280" y="6172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terogenity in population 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22:07:27Z</dcterms:created>
  <dc:creator>Joachim Rädler</dc:creator>
  <dc:description/>
  <dc:language>en-US</dc:language>
  <cp:lastModifiedBy>Dieter Braun</cp:lastModifiedBy>
  <dcterms:modified xsi:type="dcterms:W3CDTF">2024-12-02T13:06:09Z</dcterms:modified>
  <cp:revision>16</cp:revision>
  <dc:subject/>
  <dc:title>PowerPoint-Präsentation</dc:title>
</cp:coreProperties>
</file>